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E199-E44D-4C0D-8B4F-42B52E3CC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2165-2E6F-458F-918E-74FD977F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347F-8C76-4D60-AE88-97A64897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2.nicerweb.com/Locked/media/ch45/endocr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daviddarling.info/images/hypothalamu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DA1C-2FA6-4FE6-9062-3848305A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hypogal.com/wp-content/uploads/2014/11/Pituitary-HG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D49-46A9-4460-9776-5132A8D7C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922A-969B-4E60-A612-7BC997DFE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69D5-9437-4752-B015-61554EFE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2.estrellamountain.edu/faculty/farabee/Biobk/pituitary_2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reabsorption of water in distal convoluted tubule; Inhibited by alcohol &amp; caff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tocin: childbirth, milk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5FF4-46B4-413A-8DFC-A60A95B85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inghaven.typepad.com/photos/fillmores_12_power/pineal-draw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B1FE-2D78-4938-86AF-8B7D984BC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; http://www.uic.edu/classes/bios/bios100/lecturesf04am/adh01a,jp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242F-6D12-4772-AC5B-33A29D65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C04B-562B-4BF3-A5CA-E6F32E545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aloewellnessdc.com/wp-content/uploads/2014/10/hormon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opentextbc.ca/biology/chapter/18-3-regulation-of-body-proces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F0C-9DBB-4B5D-9176-7F9FE0873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en.wikipedia.org/wiki/Renin–angiotensin_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3599-CD62-4034-AC76-4A437E31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edical1stop.com/wp-content/uploads/Thyroid-Gland-Loc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A56C-94B3-4C7A-A16F-D89F9DB7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nap.edu/openbook/0309095689/xhtml/images/p2000c8bag4400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375-1677-4DB2-B763-736C689F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7AAA-5757-4BAD-8F11-5379C2DC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Thyroid-stimulating_horm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8A81-1675-466A-98D2-712B81D4C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lassconnection.s3.amazonaws.com/773/flashcards/681773/jpg/calcitonin131516931702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FAC2-BBE7-41D4-93DD-0ED8A22A2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cf.ydcdn.net/1.0.1.44/images/main/adrenal%20glan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1E4E-BAD8-49DF-AE64-397893BE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2596-BD04-422E-9140-B6568E23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4A50-8D36-4802-89B0-C68DF07F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tmguide.org/hormonebasic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02DD-9D7F-4F48-8AEB-5D2EA40C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ourses.candelalearning.com/olianp/wp-content/uploads/sites/167/2014/11/E_M1_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03B4-616F-40EC-965D-88F47A9D3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10DB-57E0-42F3-BCC6-6C438787F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F783-C4FA-4DC4-9498-64AB7A2B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EE4E-3DB4-499A-A452-EA6F6010A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7C80-B7D0-42A8-9592-03DF740C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D28-E9FE-4879-8ACB-7F5F9099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37A-0899-4EFA-BAEB-A4D0D5AF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9CB-2532-4BA7-BCC4-9F3EB6BF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34F-B227-408B-A6D1-EEB96354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71B-3EC5-4EA5-8D8B-DD73676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0D9-5D01-4D0E-9730-9BA68B7B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A30-6E97-4C13-BBCD-67DABF71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2B1-7132-4B2B-A076-22E111A2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0D0-24D8-4A16-BEA9-A17A5DDE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F0E-6274-48FF-AF28-2263DFE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44B-5BED-416D-AEFB-DF12B567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A11-6972-4C09-B497-F9DE62FB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7AE0-98F3-4442-BDAD-CF2F79A3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gNwxF3aQp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: Chemical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5_06HumanEndocGlands"/>
          <p:cNvPicPr/>
          <p:nvPr/>
        </p:nvPicPr>
        <p:blipFill>
          <a:blip r:embed="rId1"/>
          <a:stretch/>
        </p:blipFill>
        <p:spPr>
          <a:xfrm>
            <a:off x="1131840" y="609480"/>
            <a:ext cx="687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brain &amp;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 released from neurons into the bloodstream to the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5" descr="hypothalamus.gif"/>
          <p:cNvPicPr/>
          <p:nvPr/>
        </p:nvPicPr>
        <p:blipFill>
          <a:blip r:embed="rId1"/>
          <a:srcRect l="0" t="-9541" r="0" b="-954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l vein connects capillaries in hypothalamus to those in pitu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ing hormones &amp; inhibiting hormones act on the anterior pitu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4" descr="Pituitary-HG.jpeg"/>
          <p:cNvPicPr/>
          <p:nvPr/>
        </p:nvPicPr>
        <p:blipFill>
          <a:blip r:embed="rId1"/>
          <a:srcRect l="0" t="-11787" r="0" b="-1178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&amp; stores many hormones (prolactin, growth hormone, TSH, FSH, LH, ACTH, MSH, endorphin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painkiller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se are tropic hormones (they act on other endocrine g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2" descr="figure_06_04_labeled.jpg"/>
          <p:cNvPicPr/>
          <p:nvPr/>
        </p:nvPicPr>
        <p:blipFill>
          <a:blip r:embed="rId1"/>
          <a:srcRect l="0" t="4786" r="0" b="478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and releases 2 hormones produced by the hypo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diuretic hormone (ADH) &amp; oxyto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2" descr="pituitary_2.gif"/>
          <p:cNvPicPr/>
          <p:nvPr/>
        </p:nvPicPr>
        <p:blipFill>
          <a:blip r:embed="rId1"/>
          <a:srcRect l="0" t="-16694" r="0" b="-16694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6a01053603aa25970c010536c8ba2c970c-500wi"/>
          <p:cNvPicPr/>
          <p:nvPr/>
        </p:nvPicPr>
        <p:blipFill>
          <a:blip r:embed="rId1"/>
          <a:stretch/>
        </p:blipFill>
        <p:spPr>
          <a:xfrm>
            <a:off x="1266840" y="609480"/>
            <a:ext cx="661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eal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biological rhythms due to secretion of melato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atonin regulates biorhythms (th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cloc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(detected by the eye) inhibits melatonin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ory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diuretic hormone (AD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on kidneys to reabsorb more water in the distal tubule &amp;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inhibited by caffeine, alcohol; stimulated by nicotine, st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ontent Placeholder 4" descr="adh01a,jpg.jpg"/>
          <p:cNvPicPr/>
          <p:nvPr/>
        </p:nvPicPr>
        <p:blipFill>
          <a:blip r:embed="rId1"/>
          <a:srcRect l="13220" t="0" r="1322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by cells in one part of the body that regulate processes in another part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2" descr="hormones.jpg"/>
          <p:cNvPicPr/>
          <p:nvPr/>
        </p:nvPicPr>
        <p:blipFill>
          <a:blip r:embed="rId1"/>
          <a:srcRect l="0" t="-20578" r="0" b="-20578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Regulatory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5" descr="Figure_37_03_01-1024x554.jpg"/>
          <p:cNvPicPr/>
          <p:nvPr/>
        </p:nvPicPr>
        <p:blipFill>
          <a:blip r:embed="rId1"/>
          <a:srcRect l="0" t="-1255" r="0" b="-1255"/>
          <a:stretch/>
        </p:blipFill>
        <p:spPr>
          <a:xfrm>
            <a:off x="324000" y="1700280"/>
            <a:ext cx="856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6" descr="700px-Renin-angiotensin-aldosterone_system.png"/>
          <p:cNvPicPr/>
          <p:nvPr/>
        </p:nvPicPr>
        <p:blipFill>
          <a:blip r:embed="rId1"/>
          <a:srcRect l="0" t="-13769" r="0" b="-13769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hormones important for growth, development, metabolism in all verteb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 causes thyroid to release thyroxin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5" descr="Thyroid-Gland-Location.jpg"/>
          <p:cNvPicPr/>
          <p:nvPr/>
        </p:nvPicPr>
        <p:blipFill>
          <a:blip r:embed="rId1"/>
          <a:srcRect l="4167" t="0" r="416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verts to triiodothyronine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which acts on most cells to increase metabolic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4" descr="p2000c8bag44001.jpg"/>
          <p:cNvPicPr/>
          <p:nvPr/>
        </p:nvPicPr>
        <p:blipFill>
          <a:blip r:embed="rId1"/>
          <a:srcRect l="-20066" t="0" r="-2006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250px-Thyroid_system"/>
          <p:cNvPicPr/>
          <p:nvPr/>
        </p:nvPicPr>
        <p:blipFill>
          <a:blip r:embed="rId1"/>
          <a:stretch/>
        </p:blipFill>
        <p:spPr>
          <a:xfrm>
            <a:off x="2470320" y="1600200"/>
            <a:ext cx="4203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ito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ed by thy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s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s in blood by stimulating deposition in bones &amp; reducing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take by kid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2" descr="calcitonin1315169317026.jpg"/>
          <p:cNvPicPr/>
          <p:nvPr/>
        </p:nvPicPr>
        <p:blipFill>
          <a:blip r:embed="rId1"/>
          <a:srcRect l="0" t="-12637" r="0" b="-1263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thyr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m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TH) when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leas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idn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tivate vitamin D, which acts on cell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st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creas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sor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ontent Placeholder 2" descr="image019.jpg"/>
          <p:cNvPicPr/>
          <p:nvPr/>
        </p:nvPicPr>
        <p:blipFill>
          <a:blip r:embed="rId1"/>
          <a:srcRect l="-27641" t="0" r="-27641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s neurohormones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neph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renaline)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epineph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or fligh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5" descr="adrenal gland.jpg"/>
          <p:cNvPicPr/>
          <p:nvPr/>
        </p:nvPicPr>
        <p:blipFill>
          <a:blip r:embed="rId1"/>
          <a:srcRect l="-15414" t="0" r="-1541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n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t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s hormones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moregulation)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ti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lood glucose reg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2" descr="adrenal gland.jpg"/>
          <p:cNvPicPr/>
          <p:nvPr/>
        </p:nvPicPr>
        <p:blipFill>
          <a:blip r:embed="rId1"/>
          <a:srcRect l="-15414" t="0" r="-1541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receptors"/>
          <p:cNvPicPr/>
          <p:nvPr/>
        </p:nvPicPr>
        <p:blipFill>
          <a:blip r:embed="rId1"/>
          <a:stretch/>
        </p:blipFill>
        <p:spPr>
          <a:xfrm>
            <a:off x="685800" y="2638440"/>
            <a:ext cx="7772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cr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s secrete hormones directly into the blood or E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oc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ands (sweat, salivary glands) secrete into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E_M1_7.jpg"/>
          <p:cNvPicPr/>
          <p:nvPr/>
        </p:nvPicPr>
        <p:blipFill>
          <a:blip r:embed="rId1"/>
          <a:srcRect l="0" t="-2366" r="0" b="-2366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mino acid chains and water-soluble; diffuse well through blood and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cholesterol and soluble in blood when combined with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rotein-hormones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steroid-hormone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types of hormones &amp; how they interact with their target cell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TgNwxF3aQ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7-05-02T16:01:35Z</dcterms:modified>
  <cp:revision>195</cp:revision>
  <dc:subject/>
  <dc:title>Importance of the Endocrine System</dc:title>
</cp:coreProperties>
</file>